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436F-865E-4F6F-8C2D-278A4F10F9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FBD5-2F85-418D-A2F4-4EB23D8A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70F05D-E6BE-44B3-B4C7-43587C43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7B71CD-7056-46E6-8D52-DE7FCD4C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07A4B9-EA64-4388-A1BB-18D252A1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B27363-6604-46DF-A317-649CA9C4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CD9710-9E77-4BC1-8CC5-22FF528C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C90F3D-E39B-4EF0-9585-E9A6D5BD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754D42-AD81-403A-A453-E1F338E5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BB2575-A9AA-47D0-AD17-C24B307B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040DB3-025A-4256-BFA4-1F0C719F48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2FF82-B1A6-4C65-AFA2-B0861A26AB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E5B3-DA73-482F-BAB3-35A322F8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93585-A6A8-48E7-A66F-2841F50C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6FD06-6BD3-4F17-B97F-FF696581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DD9A2-A3AB-4277-B5D7-4751C9AF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D7B05-E06A-4563-A4E8-5BEA660D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71B50-865A-48D4-B888-86493B51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A5464-2FDC-4195-A92F-893D85FC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F0359-9A4C-4A33-850A-1F35302D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BEDFE-C745-46BD-ACA6-DD4D66D6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1D764-5C78-4006-B2A8-7A3982F9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D5A5D-A6AD-45B8-9DCF-D50E9B12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040A-AC09-43AC-AC27-FCD0C2113A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CE4B6-935C-4E06-86E7-1FA20501E6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DD5FC9-F5F9-4814-8A63-2780FE0BC0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0132B0-D3D3-4FBE-87B4-9EA028C2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D9F253-AD57-4E11-B9C5-0D11C9FF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349D52-9602-4151-9D00-C74ABF5F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65D95B-1ED7-49FA-B0FC-72D77AC4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87AE7A-5CDE-4DFA-A34A-DC75B74A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3C837-A78C-4359-84EC-BA8F0586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BDD579-30D5-41E3-ADA3-E75DA029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0CB6DC-D47F-49E2-B022-C282D8DA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D671D-8D3B-4DF0-B2B7-57044171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E96728-DB99-4497-8B1C-CB127CF1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6C6B87-621B-47FB-BEE0-474C736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AC9595-7DE4-4A5D-89EE-9279A4E804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DDFD6-EEC2-4A06-9225-955FE2144C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D642D-E025-46CD-8056-3BC850E6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B54B5-90CF-4634-A1FB-E6466F77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3A5E3-61A0-4E53-801A-069CB419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C9415-8AD6-4017-B75C-37799D14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59230-5CE5-4CF4-A9DF-2E61DE8D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E32F4-1D03-4E9E-95AC-321CB5FF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1CD4C-B202-4CCF-8FF6-ED59A87E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498CF-593F-4E7E-A890-1485DCA5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B1FA0-0480-4D5C-B32A-93515369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F98C5-A26D-46B2-BC30-C284C96F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6A264-7C54-447C-917B-768F7CAD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8F8B8-CFA3-49A9-A11E-DDBA24E120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0E0DA-EEB5-4D64-A8A1-A13A9A6BC4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2BAEA-AA61-49D4-A1DD-420419FD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9F65A-7449-46C4-B137-4C7F85C2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8D6FD-6F18-462C-9470-38C409C7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CE42A-159E-4524-84B8-E2355DD2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EEF8B-8687-4773-BD62-AFEC7F4A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806F2-6C4B-45F5-9226-C5D55407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D5E77-2FE3-4C8E-BDF7-3DFFAA34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53EEF-5682-4FA7-8472-7DCC2772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CC5FF-20D2-49B1-A18A-253DACA2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3E859-4B8A-4646-A273-15B87676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2BF90-D9F1-4B44-A9BD-DE30773F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33F7B-FCDD-4A57-A436-084A8805FC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F46A2-2CFA-46C2-930B-5779EE3F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133E6-E7A0-4CB7-8B65-CC225EBE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F7BD8-12D3-4825-9E0B-E74D9C1F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A5514-13DE-46DA-82ED-3DD18AAA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1D977-538C-46BE-B127-5EA9F2F9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E5823-89FE-45F2-AF98-4F7E077B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4D7A5-E423-4B1F-8BBB-838CF93E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28846-702C-4AAD-B731-2117E9BF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42036-5F0D-4FA3-B002-885D39DD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D2D12-EE00-4C25-ACBB-FC93D503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74572-CCEE-44FB-A0F4-FF8CD961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45BCC-4C25-44A6-982C-643197C9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2A230-E44C-4960-B247-1AA3901B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FD879-CAFF-47B5-AA31-3B010683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B9D5C-ECA4-46D6-8113-3052307A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00082-264E-41C7-B5B1-2C7B663B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A604D-8C47-4B3D-A65F-9D23B629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8BA3D-C66B-472C-9394-4B1F5607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6B5B2-2CFA-4322-B152-B84A7B88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BE162-C9AF-437D-BF46-180AA1A6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476D0-C1D6-4411-948F-D4E2E0E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FC137-F515-4FA7-911E-5774F9B6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8F477-C41C-4B0C-866C-A140BA5A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1D6A8-FC17-4494-A12F-47C8C95B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6641A-7342-4870-99F7-D67AEC5D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F8C15-E4E9-4182-B22D-9F6248CB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4AC27-B7BA-4CFD-A909-4B5C962F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E849D-4FCE-4EEC-BA8B-3B8709D8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FE2D8-E4B4-4831-A66F-9998DE0A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E861E-C6B2-4B57-B22C-EC304159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72810-93EF-4D56-9EED-5BC5EA89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0C343-5853-4E32-8735-8671065E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2BE7C-FB3B-4113-9244-34179CFB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06315-369F-4EDF-8F9F-6DC29C82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5D9AA-556B-4F4B-8A7E-420F3551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9136E-12A1-45E9-96B5-E1808A3F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354FF-29B7-4442-A6BB-F051BFC8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45E6A-F9D3-447E-B99F-B98D28FD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4AC4C-5A55-4289-B05A-77C5EA2F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56C7C-BD92-48DE-B155-DE555B3D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41C9C-D59B-4A75-B51B-C8FACAFD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F9753-AEC2-4331-94C2-C4A6D0DE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F49A3-DEE5-4D12-8B42-AC81965F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A4163-60E8-4CE4-8AD7-AD9E965D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913C2-99F2-4EF0-94C0-437C1D15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D07FB-384E-4085-BFD9-D6AD3771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5561A-7961-4C91-9F29-50768AB0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208B-B070-4C19-BB43-93DB5E68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DA368-D64F-4B6D-9019-DFB82F2B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BF04F-960A-4F44-91FB-48BCE462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0325A-E595-4E3E-A0BC-ADA2002B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6D96F-308C-4646-886C-320DF57B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62176-0277-400E-B262-95C638FF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25C7E-652C-42A9-BA44-56D7EB3D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B04FC-5DA0-48A1-9172-96E6D09E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92B0E9-FD23-42E8-BEC2-6D9AB35F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19C62-1D47-4E4D-98A4-42F50859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68BA66-7E17-4ADA-AB1A-DDAC8612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05031-09BA-456E-BC85-E4194A89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53B37-2981-43EF-80E7-D698BFE1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868220-CF47-42A4-96B1-F640C985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3403F-A506-4BE2-97CD-0C0B6A6E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2AA66-17CF-4F5E-B455-BB2AA871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80B42-0284-4998-B111-329ABD37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14282-29D3-404B-A2E9-29A28E14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EE6D2-6B54-4A84-8CEC-76CE198D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EA11A-5A01-4F66-8415-B49247B2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3E661-C4D6-49CB-ABDD-594A056B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0AD1B-3C9E-4960-B36F-1EDF23FB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DAD31D-BF00-4E70-97BB-F47380A6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841C8-1F24-47E0-9440-6C9F4ADD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0A586-E45B-4C50-AD6A-C65BA492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B3D6F4-77F9-4147-AEC1-E9A71540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AB1D1-7511-4BE0-95B8-321CB312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A7EC78-18D5-470B-A26B-12FF5A70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36F7F-9870-4FE1-869F-77BB281C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65474-835A-4255-B6C7-CFA21B54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044FBC-F0F4-4579-B56E-14E94DBC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46F2E-169B-444D-93AF-67083912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AD374-C738-4C49-BE18-B28AE5E7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8BDE26-834D-4F0C-99BD-9685DF70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F0907-F678-4E31-B659-4D4505A6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9E751C-D889-4133-88B1-1A10E16F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C9961-755B-4B2E-B2C1-0F961E75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3ADA34-9F97-445A-9B46-756B20B3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403D3-BBCE-40AF-93E0-6D87D5CC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41DE41-6F2B-456B-9C81-7690E48A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E9E4D3-E202-426E-97C3-CC728EB0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56E51-980D-46B6-8ECA-3F193CD0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010D2-BF39-4ADB-A715-CE2CFB35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DB9AF7-A8E0-4529-98A5-D39F6B06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D83414-D405-4D7A-8721-7509BBF1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45DAA-2DD5-4156-A36D-967760F5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3842C8-0C63-4708-A0B1-D1C6B4ED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C55C95-DFB5-40F5-96F3-A0C61778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D7D7F-92AB-455A-87D7-DFF31B1E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729044-6612-460A-9E7F-61B9FF40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FBECE7-F6C5-4525-8923-0CC95231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6BE28-574B-48AF-8FCA-E0F29FD0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1E18E8-38B4-44BB-BC85-747FD485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82F79-B088-46E0-8A64-7C4BF6C2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1DE8BB-4F1D-48CC-8D82-26B0D94C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C62E1A-5B2D-4BAA-A6BC-A41C567E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A64786-A2FC-4825-A748-21B3DAF353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80F09-7899-4784-BEC7-420657D8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3E776F-CF21-4348-AA9B-3B09B0F7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5C678E-22C8-4880-B74C-7A765B38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2C9D50-014C-484B-BD72-ADB1056B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44E80-1A07-4598-9F5B-9539519E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9AFBE4-4976-4446-AEEE-B254D38A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D0D5A-F291-4A9F-9F41-8A01F89C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DB806-67E6-4A2F-817F-71027BFD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9C932-FC48-43EF-B055-56982BBA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60823-45A1-4B75-9B52-0A074757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BD62E4-F090-42DB-BE24-9625DDBA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CDC8CC-39CB-4AB9-B0E2-E49AD714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2B4BAF-6E45-4361-A926-4E05B700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2333C3-3D90-408B-A1BD-3E6E3645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B0ACE6-7645-47D9-AC16-57BE4AE5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6450A1-D7CE-4C92-9F4E-946C6A58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02F65-D5F1-4BD3-AB52-C2352181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E88CEC-784E-4329-B866-222023DF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AC6DAD-80EC-4924-9F87-58D04176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FD28E1-67AF-4333-8367-F8CF30D8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7C28CB-2B76-4A9E-9101-8618054F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7A5BB-EC16-41FB-A206-49251BE3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39CC9A-6A0D-42C5-A1E7-E9A298C9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96AAFB-A3C4-4827-9FD1-C12A7D4B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B1BDE3-24D5-4CDE-A7AF-5F56D635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D13D28-CE0A-4CAA-B9AE-A8963E36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80291B-0B92-40A8-A630-45394554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D83A63-0539-4099-9822-85791CCC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E54EAE-E6B7-4494-9002-C231D71F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46143A-31C5-4098-A3D4-0599865C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C627A6-8A1C-44AB-90C5-0F83B96B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C0B19-16FA-4EED-9553-81F80AFF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9B60F-4179-404B-A338-D6F3D16E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B7A230-0082-4394-B46C-CB58D88E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B2911E-79D0-4CA6-87B5-4510A4A6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FB32A1-EC30-44B1-A967-C6888CAA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2AD48-7D8A-456A-AEE8-D2C3FAD1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F8A9DC-D4A4-4F64-B065-44E99803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120C6-0840-44DA-9AF4-26840887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409D9-B9EB-4CF1-BD30-EC0C9DDB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29C6B2-37EB-4713-B08A-525EF75B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D38B62-6F14-4777-A06A-0AD34224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797C69-341C-4B25-B065-C7A1DD1D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3E57-C4DB-41F1-9A8A-3577178D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992C9-72E9-467C-9B90-CADE39AD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25DFC8-26C0-470C-B383-2A70073C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2AD1E6-442C-40CB-B9D8-31FAB028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375BE3-F601-4775-8EC2-07E508F0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184AF-B0D6-4FC9-A98F-DA507BC2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C9BCFD-E24D-4B77-A026-75F5D98F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603EC0-F534-4107-8D2B-2BE4323176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DA29-49D4-4357-A3DF-B72C2DDD17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1224-F329-4EA2-B31A-16EB5B2B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702B-5090-466B-9822-35520FD0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F23A2-65A6-41FE-A8A0-5D0B2389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64BA-4183-461E-AA05-90DFAAE0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0EAA-E092-482C-9384-B1229021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C68C2-4AE0-4812-B209-79B91C04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E1E88-79D6-4D26-9039-88DFE4E9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1006-6718-44D7-8492-CA395E8B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9BFB6-C929-4B7C-A27B-D78CB611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145C-379B-4E6A-B245-958D80A2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E168-FAD6-4A27-AFD1-C8C57B59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865D9-1C4F-4B77-8323-2B42C31300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07BEF-1773-49F9-963B-B0A73569BC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C3FED-3BA2-4404-8513-66743259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059D5-DFF5-48D2-97E2-1FF58EC0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F7BBF-631E-4BBA-8FB6-B853BEFF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1B397-D807-4D9D-A5E7-9949B00B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BAAA39-EC34-4F88-AE30-305B1ADC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A958F-83F1-4DC3-9689-81B260BC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E920D-B67E-4F02-8443-F957BCAA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D7DF7-A51D-4BF6-9ADC-534FD0B7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9B3BB7-B0C3-40E7-BAA1-1FA56322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82316-199D-4609-ADF2-541BC59A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D92206-CED6-4050-AB3E-D78C21C4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B9D2-2FC0-422A-9BEC-22C21B55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BCC66-BC66-42F2-99F1-63887396CB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460754-37E6-42C3-857A-80243BAB7E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75D8C0-57F5-4B0B-A57E-0F13639B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42308D-7AAF-4509-BA69-B431C30E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0254A9-491C-416C-B645-8C051728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1565F6-F575-4921-883D-EE4A4B7F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F2BEA1-7BDE-4496-85D8-4E77FC20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437FB3-A02E-48E7-9D6E-A0136203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CA03E4-DF23-4BDB-81AC-53B8C804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C1F363-5B94-42AC-AEBF-8994BE68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1964-3B0F-49F6-AB50-B8134CCB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619F75-0996-4A22-A07A-796930C4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93EEE7-DA61-4BC4-A201-0A7BE243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D555CC-12AA-4AED-8EE3-40441AC822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B5FBB-076A-43A1-A2AE-7C626B69BB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85EEB-2999-4C83-92C5-E2EB6F58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02860-5A2A-469B-BB05-9C9905B4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8C41C-A262-42AA-8964-BD63D202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79B0C-55E8-498F-B929-39D563A8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94E81-ACEB-4B7D-8FE2-A3EA4B4C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71FAC-B826-4309-88A0-2E42D42D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9ED0D-A71B-4EE6-B9BD-69F94B35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ABCCD-CD61-4CB1-AC25-A16F16BE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8871B-4437-493E-A3A1-C219BBFD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AF2E1-5F86-4D07-A7AF-ECD1EA8F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03F1D-8AAE-4940-83F8-46B87EF1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EBA9E-E0B1-409F-9802-BC4408A5F8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83F3B-C14A-476A-80F5-1388ED57AA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E8A32-176E-4851-8867-3308064E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7FC45-7F85-42FE-9909-4CA12600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F19E6-86DE-4D9D-AC52-43110075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F63AF1-CE47-45A6-8176-046EA276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F463-B0FE-47A9-A405-EF9214D0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39F44-DFA1-4036-A385-A4D0FA50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1C52E-4445-467E-8B9F-6A23FEA9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9BAB0-3346-4E41-BAC3-C1D9E6DE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C5236-AF1F-4BE2-B063-F03EB49C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260B8-842F-40DD-86AA-92A12099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1BE78-9F52-44D9-83A8-8144F0DE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360F6-7ADA-41FC-8D55-BD7E41FFD7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B9DE0B-AF44-4A2E-9932-DAE4D36397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349D16-8560-4452-BA88-72B9C32D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7F9D9F-6AD3-48C3-9613-2B0C743D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B213-0458-44B5-BD90-3756948D94F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E32E-46EF-4309-A12C-2BE22AC994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022C-ABB5-45AE-94FF-10F463EDF6E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2D27-C8D3-40B6-B6A6-F29826AE6FF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C221-B6DD-4E7E-9EE1-59CDBB88758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0DCF-967A-4539-BE9D-A7D283EDA05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0008-9D5D-415D-BEA4-3A33111CCE3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6B6B-103C-447C-AAEF-23F118D237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B780-CBBA-4C50-ACE7-DA1C27E523D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E57C-0DE9-4D6B-84CA-E46DA36D66C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C82D-05A5-4100-8863-3D85F5DAEA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3697-DE03-4ABF-B9A4-66FE3EC94AE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FA4A-71A1-4733-BA8F-661E1A64526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7B99-FF62-4BD8-B2CB-D9ECB5D65D0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E625-368D-47CD-B6AD-88C09B8B033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50F5-E4DB-4F04-8422-8B9FF0C2816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B00F-4CD2-4844-B7D2-8131F1413A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3931-0374-4AEE-B757-DAD1BB5F6B0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46E8-18F0-4247-9499-C19BE185A8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80F4-3F80-47B9-BD49-AB46C397779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9ACA-B232-4E82-A89F-34DDC71D35C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125B-2B95-4452-A4E9-2733E6CEC05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D6BC-CCA4-483B-B4D6-B376ECD55A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4648-B906-4BD9-8A32-225A7111A9E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3048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1909800" cy="527040"/>
            <a:chOff x="-50760" y="87480"/>
            <a:chExt cx="1909800" cy="527040"/>
          </a:xfrm>
        </p:grpSpPr>
        <p:pic>
          <p:nvPicPr>
            <p:cNvPr id="99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26280" y="87480"/>
              <a:ext cx="1832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248760" cy="274680"/>
              <a:chOff x="-50760" y="182520"/>
              <a:chExt cx="248760" cy="274680"/>
            </a:xfrm>
          </p:grpSpPr>
          <p:sp>
            <p:nvSpPr>
              <p:cNvPr id="1001" name="椭圆 35"/>
              <p:cNvSpPr/>
              <p:nvPr/>
            </p:nvSpPr>
            <p:spPr>
              <a:xfrm rot="16200000">
                <a:off x="122760" y="311040"/>
                <a:ext cx="65520" cy="8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0" y="326160"/>
                <a:ext cx="149760" cy="12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37"/>
              <p:cNvSpPr/>
              <p:nvPr/>
            </p:nvSpPr>
            <p:spPr>
              <a:xfrm rot="16200000">
                <a:off x="122760" y="226800"/>
                <a:ext cx="65520" cy="8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480" y="199080"/>
                <a:ext cx="149760" cy="12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44520"/>
                <a:ext cx="1620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12840"/>
                <a:ext cx="1620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4200"/>
                <a:ext cx="1620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162000" cy="11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2"/>
          <p:cNvSpPr/>
          <p:nvPr/>
        </p:nvSpPr>
        <p:spPr>
          <a:xfrm>
            <a:off x="897120" y="194796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51"/>
          <p:cNvSpPr/>
          <p:nvPr/>
        </p:nvSpPr>
        <p:spPr>
          <a:xfrm>
            <a:off x="1714680" y="19479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4"/>
          <p:cNvSpPr/>
          <p:nvPr/>
        </p:nvSpPr>
        <p:spPr>
          <a:xfrm>
            <a:off x="2897280" y="194796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5"/>
          <p:cNvSpPr/>
          <p:nvPr/>
        </p:nvSpPr>
        <p:spPr>
          <a:xfrm>
            <a:off x="4897440" y="194796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6"/>
          <p:cNvSpPr/>
          <p:nvPr/>
        </p:nvSpPr>
        <p:spPr>
          <a:xfrm>
            <a:off x="6969240" y="194796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7"/>
          <p:cNvSpPr/>
          <p:nvPr/>
        </p:nvSpPr>
        <p:spPr>
          <a:xfrm>
            <a:off x="897120" y="287640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8"/>
          <p:cNvSpPr/>
          <p:nvPr/>
        </p:nvSpPr>
        <p:spPr>
          <a:xfrm>
            <a:off x="2897280" y="287640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9"/>
          <p:cNvSpPr/>
          <p:nvPr/>
        </p:nvSpPr>
        <p:spPr>
          <a:xfrm>
            <a:off x="4897440" y="287640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10"/>
          <p:cNvSpPr/>
          <p:nvPr/>
        </p:nvSpPr>
        <p:spPr>
          <a:xfrm>
            <a:off x="6969240" y="287640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51"/>
          <p:cNvSpPr/>
          <p:nvPr/>
        </p:nvSpPr>
        <p:spPr>
          <a:xfrm>
            <a:off x="3786120" y="19479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51"/>
          <p:cNvSpPr/>
          <p:nvPr/>
        </p:nvSpPr>
        <p:spPr>
          <a:xfrm>
            <a:off x="5715000" y="19479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51"/>
          <p:cNvSpPr/>
          <p:nvPr/>
        </p:nvSpPr>
        <p:spPr>
          <a:xfrm>
            <a:off x="7786800" y="19479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51"/>
          <p:cNvSpPr/>
          <p:nvPr/>
        </p:nvSpPr>
        <p:spPr>
          <a:xfrm>
            <a:off x="1714680" y="28764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51"/>
          <p:cNvSpPr/>
          <p:nvPr/>
        </p:nvSpPr>
        <p:spPr>
          <a:xfrm>
            <a:off x="3786120" y="28764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51"/>
          <p:cNvSpPr/>
          <p:nvPr/>
        </p:nvSpPr>
        <p:spPr>
          <a:xfrm>
            <a:off x="5715000" y="28764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1"/>
          <p:cNvSpPr/>
          <p:nvPr/>
        </p:nvSpPr>
        <p:spPr>
          <a:xfrm>
            <a:off x="7786800" y="28764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18"/>
          <p:cNvSpPr/>
          <p:nvPr/>
        </p:nvSpPr>
        <p:spPr>
          <a:xfrm>
            <a:off x="897120" y="38782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19"/>
          <p:cNvSpPr/>
          <p:nvPr/>
        </p:nvSpPr>
        <p:spPr>
          <a:xfrm>
            <a:off x="2897280" y="38782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20"/>
          <p:cNvSpPr/>
          <p:nvPr/>
        </p:nvSpPr>
        <p:spPr>
          <a:xfrm>
            <a:off x="4897440" y="38782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×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1"/>
          <p:cNvSpPr/>
          <p:nvPr/>
        </p:nvSpPr>
        <p:spPr>
          <a:xfrm>
            <a:off x="6969240" y="38782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6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51"/>
          <p:cNvSpPr/>
          <p:nvPr/>
        </p:nvSpPr>
        <p:spPr>
          <a:xfrm>
            <a:off x="1714680" y="38782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51"/>
          <p:cNvSpPr/>
          <p:nvPr/>
        </p:nvSpPr>
        <p:spPr>
          <a:xfrm>
            <a:off x="3786120" y="38782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51"/>
          <p:cNvSpPr/>
          <p:nvPr/>
        </p:nvSpPr>
        <p:spPr>
          <a:xfrm>
            <a:off x="5715000" y="38782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51"/>
          <p:cNvSpPr/>
          <p:nvPr/>
        </p:nvSpPr>
        <p:spPr>
          <a:xfrm>
            <a:off x="7786800" y="38782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26"/>
          <p:cNvSpPr/>
          <p:nvPr/>
        </p:nvSpPr>
        <p:spPr>
          <a:xfrm>
            <a:off x="571680" y="137628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矩形 1"/>
          <p:cNvSpPr/>
          <p:nvPr/>
        </p:nvSpPr>
        <p:spPr>
          <a:xfrm>
            <a:off x="285840" y="789120"/>
            <a:ext cx="85010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把口诀补充完整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四九（       ）       （       ）四十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  ）七十二       六九（        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1"/>
          <p:cNvSpPr/>
          <p:nvPr/>
        </p:nvSpPr>
        <p:spPr>
          <a:xfrm>
            <a:off x="1628640" y="155268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三十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1"/>
          <p:cNvSpPr/>
          <p:nvPr/>
        </p:nvSpPr>
        <p:spPr>
          <a:xfrm>
            <a:off x="4498920" y="152568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五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51"/>
          <p:cNvSpPr/>
          <p:nvPr/>
        </p:nvSpPr>
        <p:spPr>
          <a:xfrm>
            <a:off x="1000080" y="202572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八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51"/>
          <p:cNvSpPr/>
          <p:nvPr/>
        </p:nvSpPr>
        <p:spPr>
          <a:xfrm>
            <a:off x="5286240" y="202572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五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7"/>
          <p:cNvSpPr/>
          <p:nvPr/>
        </p:nvSpPr>
        <p:spPr>
          <a:xfrm>
            <a:off x="285840" y="2932200"/>
            <a:ext cx="8501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根据口诀，写出两个乘法算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七九六十三            五九四十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9"/>
          <p:cNvSpPr/>
          <p:nvPr/>
        </p:nvSpPr>
        <p:spPr>
          <a:xfrm>
            <a:off x="857160" y="4789440"/>
            <a:ext cx="1643040" cy="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11"/>
          <p:cNvSpPr/>
          <p:nvPr/>
        </p:nvSpPr>
        <p:spPr>
          <a:xfrm>
            <a:off x="4286160" y="4789440"/>
            <a:ext cx="1643040" cy="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直接连接符 14"/>
          <p:cNvSpPr/>
          <p:nvPr/>
        </p:nvSpPr>
        <p:spPr>
          <a:xfrm>
            <a:off x="857160" y="5575320"/>
            <a:ext cx="1643040" cy="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直接连接符 15"/>
          <p:cNvSpPr/>
          <p:nvPr/>
        </p:nvSpPr>
        <p:spPr>
          <a:xfrm>
            <a:off x="4286160" y="5575320"/>
            <a:ext cx="1643040" cy="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1"/>
          <p:cNvSpPr/>
          <p:nvPr/>
        </p:nvSpPr>
        <p:spPr>
          <a:xfrm>
            <a:off x="1000080" y="4240080"/>
            <a:ext cx="157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×9=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51"/>
          <p:cNvSpPr/>
          <p:nvPr/>
        </p:nvSpPr>
        <p:spPr>
          <a:xfrm>
            <a:off x="1000080" y="5075280"/>
            <a:ext cx="157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×7=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1"/>
          <p:cNvSpPr/>
          <p:nvPr/>
        </p:nvSpPr>
        <p:spPr>
          <a:xfrm>
            <a:off x="4357800" y="4240080"/>
            <a:ext cx="157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×9=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51"/>
          <p:cNvSpPr/>
          <p:nvPr/>
        </p:nvSpPr>
        <p:spPr>
          <a:xfrm>
            <a:off x="4357800" y="5075280"/>
            <a:ext cx="157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×5=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49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51" name="椭圆 52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2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椭圆 5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4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0:38:00Z</dcterms:created>
  <dc:creator/>
  <dc:description/>
  <dc:language>en-US</dc:language>
  <cp:lastModifiedBy>万润仪器贸易公司</cp:lastModifiedBy>
  <dcterms:modified xsi:type="dcterms:W3CDTF">2020-08-21T00:39:33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